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0B65-2AB6-40BD-9DD8-751B2AC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7DFB-F2ED-44DB-85AE-57FF132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7353-80D4-4575-AFEA-E7E55A52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CD7F-9AD8-4D59-9E9D-F56A6660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F74-1B21-4DEE-ABA4-4562E8E4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5BA-BE3C-4AA0-9BB9-65CCC4C2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B8E-0061-46C9-811F-38E7B2DB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97C4-D16F-460E-B4CB-C6EE000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DAD6-96EA-43AE-B781-F38C156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3E7-8467-4F68-BD63-08A28CD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F12A-C66D-4F33-AA3F-D4B6061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5DB6-EFD0-48DB-946A-1EDB1534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5903-54BB-49F8-AAA1-18449DF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F978-F891-4D1C-A9EB-2DF27D0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3CB-D80B-4B2E-A516-FE527C5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676-E9B2-431F-AB13-934D4938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E17C-A54F-4A80-8439-5BEB4F1A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2D0D-90C1-4B00-AEAB-66468C5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F5DD-05A8-4E67-86DF-2961D8E4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15D3-5C44-4A43-A227-DA2DD45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9DEB-CFC8-4FAE-9266-90B9259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0EDC-5EE1-4AC0-8371-E36B1F7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BC8F-36F5-4C68-808D-5AC2028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B903-F1D1-4E62-83CB-96B3A16B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958B-B9D5-4A0B-A0CE-F3CFD61C40B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A55-D40B-40BC-9FD6-AE8F253F1F0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20240" y="429840"/>
            <a:ext cx="934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6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вое име сме събра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те хвалим Господ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репет свята, радост дай 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между ни Ти бъд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Помежду ни Ти бъди, о Господи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48040" y="124920"/>
            <a:ext cx="934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зи свят, доде сме жив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чко Теб ще отдадем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а Тебе покорлив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ки кръст ще понесе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докога ни прибереш в последн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н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8000" y="-665640"/>
            <a:ext cx="9036000" cy="66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огава с поклонение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д престола Ти велик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запеем ние хвал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ружно с херувимски лик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В пълна радост щ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бъдваме във век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15:16:29Z</dcterms:modified>
  <cp:revision>6</cp:revision>
  <dc:subject/>
  <dc:title>Slide 1</dc:title>
</cp:coreProperties>
</file>